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904-608D-4F5E-885F-09E7492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229-0122-4060-B50F-CECB4DE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CB1-5F57-4217-BC26-773A4EA7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2A6-A284-4760-A519-51568904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A18-960A-4140-AD7A-D02F36B9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7DA-7EB2-42F0-8FCB-05314DC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AF6B-AC66-4B22-BCD1-BA7BD21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54C1-D8E9-4B63-BC02-5AD59DE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02E-9486-4A7A-B853-0D8B7D0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F6B9-E2A0-4379-A0AF-7ACE6757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FCD-56D4-4F65-8314-FC9E85A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316-4AC4-40E2-8AF0-88B9C6D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4795-A18A-4F2B-9EAB-9180887F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D1FE-0F0C-4D34-92D9-C407041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1A68-F7DB-4395-AFF7-AD56AA2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9A27-2109-4500-8F8D-802DFF4B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BD3F-42FD-4B5D-BDE6-54500C4E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41-5BFB-44C0-819E-55BA57F0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936-C52C-4A08-9051-6D86813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FC6-332C-4997-82CE-694C100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5E7-BC0A-477C-9D95-A29DB31F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A4-DB62-4986-92A7-23716873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D26-B307-4E59-AFD9-FBCDEEA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29A-6B0E-4022-8213-E8034E3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107C-7B9A-4927-88D5-674FE0667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8C9-1933-4193-9B80-10C4DDBB2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Camille_Corot_auto-retrato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a/Camille_Corot_-_Woman_with_a_Pearl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Corot_Rome_View_from_the_Farnese_Garden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32000" y="3357720"/>
            <a:ext cx="266220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latin typeface="Script MT Bold"/>
              </a:rPr>
              <a:t>Coro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Autorretra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916280"/>
            <a:ext cx="28573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Mujer con una perl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Archivo:Camille Corot - Woman with a Pear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1628640"/>
            <a:ext cx="40291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Script MT Bold"/>
              </a:rPr>
              <a:t>Recuerdo de Mortefontaine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Imagen:Corot Rome View from the Farnese Gard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71168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Script MT Bold"/>
              </a:rPr>
              <a:t>Die kleine Lesende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399132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Script MT Bold"/>
              </a:rPr>
              <a:t>Agosti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29113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2:54:36Z</dcterms:created>
  <dc:creator>Pc 5</dc:creator>
  <dc:description/>
  <dc:language>en-US</dc:language>
  <cp:lastModifiedBy>Pc 5</cp:lastModifiedBy>
  <dcterms:modified xsi:type="dcterms:W3CDTF">2008-12-19T13:04:34Z</dcterms:modified>
  <cp:revision>2</cp:revision>
  <dc:subject/>
  <dc:title>Diapositiva 1</dc:title>
</cp:coreProperties>
</file>